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8A1A-0A49-415B-B004-7B168C17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4DE-3800-48F5-87E2-6C03BE42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9C4-1D32-4C04-9BE1-8F60788F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44D-7550-4493-82B1-23C42666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E1F-9266-48F8-88D3-0BCA62D1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7BC-FA9F-4005-AAA2-6C9E1BEC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B79-D78B-4773-911B-1342E87C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ECC-AF80-440B-90C3-5174FFB7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0C5-FC50-4BF6-88D0-B2E11943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54D-2786-43CB-AE78-F5995C7E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3D6-5E20-4763-8D09-4C49C88C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1EC-BCCA-4A9A-A69B-26BC191C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353F-18CC-458D-A97A-5AB4446EA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7 Pán z lásky trón opust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pre teba na kríži m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úst tvojich mu za to chv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zvoľ si svoj života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a prijmi za svojho Krá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obhajcom tvojím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láskavo k tebe sa skláň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d tebou verne bd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, chválu mu ne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presta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pre teba na kríži m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úst tvojich mu za to chv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zvoľ si svoj života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a prijmi za svojho Kráľ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z lásky trón opust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pôsob jak spasiť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ie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život svoj polož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hriechy a za viny naš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pre teba na kríži m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úst tvojich mu za to chv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zvoľ si svoj života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a prijmi za svojho Krá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nádej pre človek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do hlbín hriec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kles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láska je odvek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on za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remä vín nies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pre teba na kríži m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úst tvojich mu za to chv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zvoľ si svoj života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a prijmi za svojho Krá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 srdce klope 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už dovoľ 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neho vstúp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cestu ti osvie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nebude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emnote blúd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5T10:40:01Z</dcterms:modified>
  <cp:revision>33</cp:revision>
  <dc:subject/>
  <dc:title>Je veľký náš Pán, on slávy je Kráľ Nech do všetkých strán  spev vrúcnych znie chvál.</dc:title>
</cp:coreProperties>
</file>